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3AC90-00AF-4ACE-9EC3-C249EA745AC3}"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ª</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ı</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ˆ</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ÁÏ</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Î</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Ê</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f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Í</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ˆ</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Ï</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Î</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Î</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ı</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Î</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Ê</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Î</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f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Î</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ˆ</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f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Æ</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Ï</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Í</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ˆ</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Ê</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Î</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Î</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ı</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Ê</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ˆ</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ˆ</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Ê</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Î</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Î</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Ï</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Á‹</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ı</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ˆ</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ˆ</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ˆ</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Á›</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ˆ</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f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Î</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ı</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Á</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Ï</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Î</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Á</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Á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Ï</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ˆ</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Á</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Á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ˆ</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f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Á</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Ï</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Î</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f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Ê</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Ï</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Ï</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Î</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Î</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Á¿</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Ï</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ˆ</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Î</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ı</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ˆ</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Î</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f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ı</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f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Ï</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ˆ</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f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Ï</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ˆ</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Î</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ı</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Ï</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Á›</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ı</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Î</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ÁÏ</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Î</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Î</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Ï</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ˆ</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Á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Ï</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ª</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Á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Á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ˆ</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f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ÁÏ</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Î</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f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Ê</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Ï</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Î</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Ï</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ˆ</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Î</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ı</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f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ˆ</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Î</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Î</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ˆ</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Á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Á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f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Î</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ı</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ÁÎ</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ı</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Î</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Î</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f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Ï</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Ï</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Á</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Ï</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Î</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Î</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ˆ</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Î</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Î</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ˆ</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f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Î</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f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ª</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Î</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ˆ</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Î</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Î</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ˆ</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Î</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ı</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f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ı</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Ï</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Î</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ı</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Î</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ˆ</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Ï</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Í</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ˆ</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Æ</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Ï</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Ï</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Ï</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ˆ</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Û</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Ê</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ı</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Î</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È</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f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Ë</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Â</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1B9CC-246D-4A00-AD14-78D47DDF7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29507-6872-43FE-A579-2E72AC9F7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2EDBD-4080-4434-95D9-DDFA88C2D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59A6A-54F4-4058-B7A9-4333E19676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DA17EE-46E3-4862-9AD3-7605AA1757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D060D-635A-4CE2-8ABF-B7FB194670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EAD20A-73D5-4FAC-B736-B1BB5C0F2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2D304B-05F4-460D-AF8F-6BB5CBD320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A006D-4F2D-4716-96BE-9B0DC779E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962E87-69FB-4041-A99D-2F639EF17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81B8F-604F-407A-9315-343CDDC8D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5501F-CF96-4FF5-A53B-0BD81CA81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03AD9-2784-454C-81E1-27B4D42D4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FCA21-F8B9-46D2-8EDF-1E8BD525F3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9AFB0E-B57D-4134-8D3B-EBCF5084B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6CF7D9-D126-4272-AC10-313AC4C202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C711B8-8B95-4E26-8776-0F38FC03D5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1B316-8502-4870-AB53-080F4EFAF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870A7-DDF8-4A40-A29C-8B0EA4C8D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B44E2-DE1B-4231-AD38-023FD9DBB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1A52B-871A-4128-8C73-760CB60F5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18695-81CC-4793-8FE0-C6709EFA3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1D9CD-E362-4DD5-85AB-8B33C49AB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AE6F4-6E8F-45B3-8F82-12A60ECEFE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EB7B7-8789-4474-8C3E-4243ABA1BDD6}"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EC7BF-77C2-4412-9940-960297D77A55}"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620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Το κρασί και η παραγωγή του</a:t>
            </a:r>
            <a:endParaRPr b="0" lang="en-US" sz="3600" spc="-1" strike="noStrike">
              <a:solidFill>
                <a:srgbClr val="ffffcc"/>
              </a:solidFill>
              <a:latin typeface="Tahoma"/>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Μέλη ομάδας:</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Τζιβελέκης Νίκος</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Τσιτούρας Μπάμπης</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Χατζηκανέλλου Χρύσα</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Στεργίου Νίκος</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Χατζηθεοδώρου Δημήτρης</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Λίγα λόγια για την παραγωγή του κρασιού:</a:t>
            </a:r>
            <a:endParaRPr b="0" lang="en-US" sz="3200" spc="-1" strike="noStrike">
              <a:solidFill>
                <a:srgbClr val="ffffcc"/>
              </a:solidFill>
              <a:latin typeface="Tahoma"/>
            </a:endParaRPr>
          </a:p>
        </p:txBody>
      </p:sp>
      <p:sp>
        <p:nvSpPr>
          <p:cNvPr id="98" name="PlaceHolder 2"/>
          <p:cNvSpPr>
            <a:spLocks noGrp="1"/>
          </p:cNvSpPr>
          <p:nvPr>
            <p:ph/>
          </p:nvPr>
        </p:nvSpPr>
        <p:spPr>
          <a:xfrm>
            <a:off x="611280" y="1700280"/>
            <a:ext cx="8229600" cy="4495680"/>
          </a:xfrm>
          <a:prstGeom prst="rect">
            <a:avLst/>
          </a:prstGeom>
          <a:noFill/>
          <a:ln w="9360">
            <a:solidFill>
              <a:srgbClr val="ffffff"/>
            </a:solidFill>
            <a:miter/>
          </a:ln>
        </p:spPr>
        <p:txBody>
          <a:bodyPr lIns="90000" rIns="90000" tIns="46800" bIns="46800" anchor="t">
            <a:normAutofit/>
          </a:bodyPr>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u="sng">
                <a:solidFill>
                  <a:srgbClr val="ffffff"/>
                </a:solidFill>
                <a:uFillTx/>
                <a:latin typeface="Tahoma"/>
              </a:rPr>
              <a:t>Η πρώτη ύλη – Το σταφύλι </a:t>
            </a:r>
            <a:br>
              <a:rPr sz="1400"/>
            </a:br>
            <a:r>
              <a:rPr b="1" lang="el-GR" sz="1400" spc="-1" strike="noStrike">
                <a:solidFill>
                  <a:srgbClr val="ffffff"/>
                </a:solidFill>
                <a:latin typeface="Tahoma"/>
              </a:rPr>
              <a:t>Οι ρώγες του σταφυλιού περιέχουν σάκχαρα, που θα μετατραπούν με αλκοολική ζύμωση σε οινόπνευμα, καθώς επίσης οργανικά οξέα και νερό. Για την παραγωγή ερυθρού ή ροζέ οίνου τα σταφύλια κατά κανόνα είναι ερυθρά, ενώ για τους λευκούς οίνους, το σταφύλι μπορεί να είναι λευκό ή και ερυθρό.</a:t>
            </a:r>
            <a:r>
              <a:rPr b="0" lang="el-GR" sz="1400" spc="-1" strike="noStrike">
                <a:solidFill>
                  <a:srgbClr val="ffffff"/>
                </a:solidFill>
                <a:latin typeface="Tahoma"/>
              </a:rPr>
              <a:t> </a:t>
            </a:r>
            <a:endParaRPr b="0" lang="en-US" sz="1400" spc="-1" strike="noStrike">
              <a:solidFill>
                <a:srgbClr val="ffffff"/>
              </a:solidFill>
              <a:latin typeface="Tahoma"/>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ffff"/>
                </a:solidFill>
                <a:latin typeface="Tahoma"/>
              </a:rPr>
              <a:t>Μετά τον τρύγο τα σταφύλια πρέπει να μεταφερθούν χωρίς καθυστέρηση στο "πατητήρι", όπου θα εξαχθεί το γλεύκος (μούστος) από τις ρώγες. Η έκθλιψη του μούστου μπορεί να γίνει με διάφορες μεθόδους.Στο παραδοσιακό πατητήρι όπου τα σταφύλια πατιούνται από τους ανθρώπους .</a:t>
            </a:r>
            <a:endParaRPr b="0" lang="en-US" sz="1400" spc="-1" strike="noStrike">
              <a:solidFill>
                <a:srgbClr val="ffffff"/>
              </a:solidFill>
              <a:latin typeface="Tahoma"/>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ffff"/>
                </a:solidFill>
                <a:latin typeface="Tahoma"/>
              </a:rPr>
              <a:t>Σε διάφορα μηχανήματα ("σπαστήρες"), χειροκίνητα ή ηλεκτρικά, που συνήθως λειτουργούν συνθλίβοντας το σταφύλι ανάμεσα σε περιστρεφόμενους κυλίνδρους. Υπάρχουν μηχανήματα ("πιεστήρια") τα οποία, προκειμένου να παραχθεί λευκό κρασί, διαχωρίζουν αυτόματα το χυμό από τα στερεά συστατικά της ρώγας</a:t>
            </a:r>
            <a:endParaRPr b="0" lang="en-US" sz="1400" spc="-1" strike="noStrike">
              <a:solidFill>
                <a:srgbClr val="ffffff"/>
              </a:solidFill>
              <a:latin typeface="Tahoma"/>
            </a:endParaRPr>
          </a:p>
          <a:p>
            <a:pPr marL="343080" indent="-3430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ffff"/>
                </a:solidFill>
                <a:latin typeface="Tahoma"/>
              </a:rPr>
              <a:t>Το οινόπνευμα που περιέχει το κρασί παράγεται από τα σάκχαρα του μούστου,με την αντίδραση της αλκοολικής ζύμωσης, που επιτελείται από ειδικά ένζυμα ("ζυμάσες") των ζυμομυκήτων. Οι ζυμομύκητες ήδη υπάρχουν πριν τον τρύγο αδρανοποιημένοι στο φλοιό των σταφυλιών και "ενεργοποιούνται" κατά τη γλευκοποίηση.</a:t>
            </a:r>
            <a:r>
              <a:rPr b="0" lang="el-GR"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ahoma"/>
              </a:rPr>
              <a:t>Διαδικασία απολάσπωσης:</a:t>
            </a:r>
            <a:endParaRPr b="0" lang="en-US" sz="2400" spc="-1" strike="noStrike">
              <a:solidFill>
                <a:srgbClr val="ffffcc"/>
              </a:solidFill>
              <a:latin typeface="Tahoma"/>
            </a:endParaRPr>
          </a:p>
        </p:txBody>
      </p:sp>
      <p:sp>
        <p:nvSpPr>
          <p:cNvPr id="100" name="PlaceHolder 2"/>
          <p:cNvSpPr>
            <a:spLocks noGrp="1"/>
          </p:cNvSpPr>
          <p:nvPr>
            <p:ph/>
          </p:nvPr>
        </p:nvSpPr>
        <p:spPr>
          <a:xfrm>
            <a:off x="539280" y="1600200"/>
            <a:ext cx="8147160" cy="5068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Tahoma"/>
              </a:rPr>
              <a:t>Ο χυμός του σταφυλιού - ο μούστος - μόλις βγαίνει από το πιεστήριο περιέχει διαλυμένες πολλές ουσίες αλλά και στερεά και για τον λόγο αυτό είναι πολύ θολός. Για παράδειγμα, περιέχει χώματα, την ψύχα της ρόγας του σταφυλιού, κομμάτια από φύλλα και άλλα πράσινα μέρη, ενδεχόμενα υπολλείματα φυτοφαρμάκων κ.λ.π. Αν όλες αυτές οι προσμίξεις παραμείνουν κατά την διάρκεια της ζύμωσης, θα προσδώσουν άσχημες γεύσεις και οσμές στο κρασί και θα δημιουργήσουν προβλήματα στην ομαλή πορεία της ζύμωσης. Στην μοντέρνα, επαγγελματική, οινοποίηση η διαδικασία με την οποία απαλλασόμαστε από όλα αυτά τα περιεχόμενα του μούστου είναι η </a:t>
            </a:r>
            <a:r>
              <a:rPr b="1" lang="el-GR" sz="1600" spc="-1" strike="noStrike">
                <a:solidFill>
                  <a:srgbClr val="ffffff"/>
                </a:solidFill>
                <a:latin typeface="Tahoma"/>
              </a:rPr>
              <a:t>απολάσπωση</a:t>
            </a:r>
            <a:r>
              <a:rPr b="0" lang="el-GR" sz="1600" spc="-1" strike="noStrike">
                <a:solidFill>
                  <a:srgbClr val="ffffff"/>
                </a:solidFill>
                <a:latin typeface="Tahoma"/>
              </a:rPr>
              <a:t>. </a:t>
            </a:r>
            <a:endParaRPr b="0" lang="en-US" sz="1600" spc="-1" strike="noStrike">
              <a:solidFill>
                <a:srgbClr val="ffffff"/>
              </a:solidFill>
              <a:latin typeface="Tahoma"/>
            </a:endParaRPr>
          </a:p>
          <a:p>
            <a:pPr marL="332640" indent="-33264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Tahoma"/>
              </a:rPr>
              <a:t>Κατα την διαδικασία της απολάσπωσης, ο φρέσκος μούστος παραμένει σε ειδικές δεξαμενές υπό ψύξη για μερικές ώρες έτσι ώστε όλα τα βαριά υλικά να πέσουν (καθιζάνουν) στον πυθμένα και να αφήσουν τον υπερκείμενο μούστο καθαρό. Η απολάσπωση με αυτό τον τρόπο είναι η πιο απλή μέθοδος και λέγεται "στατική απολάπωση". Τις περισσότερες φορές υποβοηθείται με την χρήση ειδικών ουσιών που διευκολύνουν την καθίζηση των "γλευκολασπών". Η διαδικασία αυτή που περιγράψαμε ανήκει στις στατικές μορφές απολάσπωσης ενώ, συνήθως για πολύ μεγάλες ποσότητες μούστου, υπάρχουν και οι πιο γρήγορες τεχνικές μηχανικά υποβοηθούμενης απολάσπωσης. </a:t>
            </a:r>
            <a:endParaRPr b="0" lang="en-US" sz="1600" spc="-1" strike="noStrike">
              <a:solidFill>
                <a:srgbClr val="ffffff"/>
              </a:solidFill>
              <a:latin typeface="Tahoma"/>
            </a:endParaRPr>
          </a:p>
          <a:p>
            <a:pPr marL="332640" indent="-33264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Tahoma"/>
              </a:rPr>
              <a:t>Εκτός από την απομάκρυσνση των ουσιών που θα μπορούσαν να δημιουργήσουν προβλήματα στην δημιουργία του κρασιού, η απολάσπωση μας δίνει έναν διαυγή μούστο με μειωμένο κατά πολύ το αρχικό του φορτίο σε ιθαγενείς ζυμομύκητες και μάλιστα των ομάδων που συνήθως δεν συνεισφέρουν θετικά στο κρασί. Με τον τρόπο αυτό αποκτάμε μεγαλύτερο έλεγχο της ζύμωσης καθώς μπορούμε να εισάγουμε </a:t>
            </a:r>
            <a:r>
              <a:rPr b="1" lang="el-GR" sz="1600" spc="-1" strike="noStrike">
                <a:solidFill>
                  <a:srgbClr val="ffffff"/>
                </a:solidFill>
                <a:latin typeface="Tahoma"/>
              </a:rPr>
              <a:t>επιλεγμένους</a:t>
            </a:r>
            <a:r>
              <a:rPr b="0" lang="el-GR" sz="1600" spc="-1" strike="noStrike">
                <a:solidFill>
                  <a:srgbClr val="ffffff"/>
                </a:solidFill>
                <a:latin typeface="Tahoma"/>
              </a:rPr>
              <a:t> ζυμομύκητες για να διεξάγουν την ζύμωση ή να αφήσουμε τους "διαλεγμένους, πια, ενδογενείς ζυμομύκητες.</a:t>
            </a:r>
            <a:r>
              <a:rPr b="0" lang="el-GR"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Ζύμωση:</a:t>
            </a:r>
            <a:endParaRPr b="0" lang="en-US" sz="28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3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u="sng">
                <a:solidFill>
                  <a:srgbClr val="ffffff"/>
                </a:solidFill>
                <a:uFillTx/>
                <a:latin typeface="Tahoma"/>
              </a:rPr>
              <a:t>Ζύμωση</a:t>
            </a:r>
            <a:br>
              <a:rPr sz="1200"/>
            </a:br>
            <a:r>
              <a:rPr b="1" lang="el-GR" sz="1200" spc="-1" strike="noStrike">
                <a:solidFill>
                  <a:srgbClr val="ffffff"/>
                </a:solidFill>
                <a:latin typeface="Tahoma"/>
              </a:rPr>
              <a:t>Το οινόπνευμα που περιέχει το κρασί παράγεται από τα σάκχαρα του μούστου,με την αντίδραση της αλκοολικής ζύμωσης, που επιτελείται από ειδικά ένζυμα ("ζυμάσες") των ζυμομυκήτων. Οι ζυμομύκητες ήδη υπάρχουν πριν τον τρύγο αδρανοποιημένοι στο φλοιό των σταφυλιών και "ενεργοποιούνται" κατά τη γλευκοποίηση. Έρχονται σε επαφή με το μούστο, εκεί πολλαπλασιάζονται και επιτελούν τη ζύμωση, κατά την οποία εκτός από αιθυλική αλκοόλη παράγεται διοξείδιο του άνθρακα και θερμότητα. Για το λόγο αυτό κατά τη διάρκεια της ζύμωσης ο μούστος είναι ζεστός και "κοχλάζει". Η ζύμωση διαρκεί από 8-9 έως και 25 ημέρες, ανάλογα με την αρχική συγκέντρωση των σακχάρων, τη θερμοκρασία στην οποία πολλαπλασιάζονται και δρουν οι μύκητες, το οξυγόνο που έχουν στη διάθεσή τους και άλλους παράγοντες. Όσο πιο πολύ διαρκεί η ζύμωση, τόσο πιο πολλά "αρώματα ζύμωσης" θα πάρει το κρασί, γι' αυτό, ιδίως στα λευκά κρασιά, οι περισσότεροι οινοποιοί διατηρούν με τεχνητά μέσα χαμηλή (15-20 Κελσίου) τη θερμοκρασία ζύμωσης, μειώνοντας την ταχύτητά της. Στα κόκκινα κρασιά συχνά η ζύμωση γίνεται σε δύο φάσεις, μια πρώτη, γρήγορη, στη διάρκεια της οποίας μέσα στο μούστο βρίσκονται και τα στέμφυλα και μια δεύτερη, πιο αργή, μετά την αφαίρεση των στέμφυλων. Η ζύμωση μπορεί να διακοπεί πριν την ολοκλήρωσή της με θέρμανση (38-40 Κελσίου), με ψύξη (6-7 Κελσίου) ή με προσθήκη μικρής ποσότητος καθαρού οινοπνεύματος. Αν η ζύμωση διακοπεί, ένα ποσοστό των σακχάρων μένει αδιάσπαστο, έτσι η μέθοδος βρίσκει εφαρμογή στην παρασκευή γλυκών κρασιών.</a:t>
            </a:r>
            <a:r>
              <a:rPr b="0" lang="el-GR" sz="1200" spc="-1" strike="noStrike">
                <a:solidFill>
                  <a:srgbClr val="ffffff"/>
                </a:solidFill>
                <a:latin typeface="Tahoma"/>
              </a:rPr>
              <a:t> </a:t>
            </a:r>
            <a:r>
              <a:rPr b="1" lang="el-GR" sz="1200" spc="-1" strike="noStrike">
                <a:solidFill>
                  <a:srgbClr val="ffffff"/>
                </a:solidFill>
                <a:latin typeface="Tahoma"/>
              </a:rPr>
              <a:t>Αποτελώντας τη βασική αντίδραση της οινοποίησης, η αλκοολική ζύμωση είναι ένα σύνθετο βιοχημικό φαινόμενο με βασικό άξονα εξέλιξης τη μετατροπή των σακχάρων του γλεύκους σε αιθυλική αλκοόλη και διοξείδιο του άνθρακα διαμέσου του μεταβολισμού μικροοργανισμών, κυρίως ζυμών.</a:t>
            </a:r>
            <a:r>
              <a:rPr b="0" lang="el-GR" sz="2800" spc="-1" strike="noStrike">
                <a:solidFill>
                  <a:srgbClr val="ffffff"/>
                </a:solidFill>
                <a:latin typeface="Tahoma"/>
              </a:rPr>
              <a:t> </a:t>
            </a:r>
            <a:r>
              <a:rPr b="1" lang="el-GR" sz="1200" spc="-1" strike="noStrike">
                <a:solidFill>
                  <a:srgbClr val="ffffff"/>
                </a:solidFill>
                <a:latin typeface="Tahoma"/>
              </a:rPr>
              <a:t>C6H12O6 (σάκχαρα) + Ζύμες = 2C2H5OH (αιθανόλη) + 2CO2 (διοξείδιο του άνθρακα)</a:t>
            </a:r>
            <a:r>
              <a:rPr b="0" lang="el-GR" sz="1200" spc="-1" strike="noStrike">
                <a:solidFill>
                  <a:srgbClr val="ffffff"/>
                </a:solidFill>
                <a:latin typeface="Tahoma"/>
              </a:rPr>
              <a:t> </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Συνθήκες που ευνοούν στην ωρίμανση :</a:t>
            </a:r>
            <a:endParaRPr b="0" lang="en-US" sz="2400" spc="-1" strike="noStrike">
              <a:solidFill>
                <a:srgbClr val="ffffcc"/>
              </a:solidFill>
              <a:latin typeface="Tahoma"/>
            </a:endParaRPr>
          </a:p>
        </p:txBody>
      </p:sp>
      <p:sp>
        <p:nvSpPr>
          <p:cNvPr id="104" name="PlaceHolder 2"/>
          <p:cNvSpPr>
            <a:spLocks noGrp="1"/>
          </p:cNvSpPr>
          <p:nvPr>
            <p:ph/>
          </p:nvPr>
        </p:nvSpPr>
        <p:spPr>
          <a:xfrm>
            <a:off x="324000" y="1484280"/>
            <a:ext cx="8229600" cy="4495680"/>
          </a:xfrm>
          <a:prstGeom prst="rect">
            <a:avLst/>
          </a:prstGeom>
          <a:noFill/>
          <a:ln w="0">
            <a:noFill/>
          </a:ln>
        </p:spPr>
        <p:txBody>
          <a:bodyPr lIns="90000" rIns="90000" tIns="46800" bIns="46800" anchor="t">
            <a:normAutofit fontScale="90000"/>
          </a:bodyPr>
          <a:p>
            <a:pPr marL="308520" indent="-30852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Tahoma"/>
              </a:rPr>
              <a:t>Οι παράγοντές οι οποίοι επηρεάζουν την ζύμωση του κρασιού είναι οι εξής :</a:t>
            </a:r>
            <a:r>
              <a:rPr b="1" lang="el-GR" sz="1600" spc="-1" strike="noStrike">
                <a:solidFill>
                  <a:srgbClr val="ffffff"/>
                </a:solidFill>
                <a:latin typeface="Tahoma"/>
              </a:rPr>
              <a:t>         </a:t>
            </a:r>
            <a:endParaRPr b="0" lang="en-US" sz="1600" spc="-1" strike="noStrike">
              <a:solidFill>
                <a:srgbClr val="ffffff"/>
              </a:solidFill>
              <a:latin typeface="Tahoma"/>
            </a:endParaRPr>
          </a:p>
          <a:p>
            <a:pPr marL="308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Tahoma"/>
              </a:rPr>
              <a:t> </a:t>
            </a:r>
            <a:r>
              <a:rPr b="1" lang="el-GR" sz="1600" spc="-1" strike="noStrike">
                <a:solidFill>
                  <a:srgbClr val="ffffff"/>
                </a:solidFill>
                <a:latin typeface="Tahoma"/>
              </a:rPr>
              <a:t>α.</a:t>
            </a:r>
            <a:r>
              <a:rPr b="0" lang="el-GR" sz="1600" spc="-1" strike="noStrike">
                <a:solidFill>
                  <a:srgbClr val="ffffff"/>
                </a:solidFill>
                <a:latin typeface="Tahoma"/>
              </a:rPr>
              <a:t> η χημική σύνθεση του </a:t>
            </a:r>
            <a:r>
              <a:rPr b="0" lang="el-GR" sz="1400" spc="-1" strike="noStrike">
                <a:solidFill>
                  <a:srgbClr val="ffffff"/>
                </a:solidFill>
                <a:latin typeface="Tahoma"/>
              </a:rPr>
              <a:t>μούστου:Η ιδανική χημική σύσταση του κρασιού είναι η εξής : </a:t>
            </a:r>
            <a:r>
              <a:rPr b="1" lang="el-GR" sz="1400" spc="-1" strike="noStrike">
                <a:solidFill>
                  <a:srgbClr val="ffffff"/>
                </a:solidFill>
                <a:latin typeface="Tahoma"/>
              </a:rPr>
              <a:t>α) 81% νερό, β) 12% αλκοόλη και γ) 7% αλλά συστατικά όπως σάκχαρα, θειώδη, πρωτεΐνες και αμινοξέα, οργανικά οξέα (κιτρικό οξύ, γαλλικό οξύ, μηλικό οξύ, οξικό οξύ, γαλλικό οξύ και τρυγικό οξύ), υδατοδιαλυτές βιταμίνες (Β1, Β2, Β3, Β4, Β5, Β6, Β9, Β12 και C), μέταλλα (κάλιο, νάτριο, ασβέστιο, σίδηρο, μαγνήσιο, φώσφορο, ψευδάργυρος, χαλκός, μαγγάνιο, φθόριο και σελήνιο) και άλλα ωφέλιμα συστατικά για την υγεία όπως η ρεσβερατρόλη, διάφορες φαινολικές ενώσεις, τα φλαβονοειδή, τα βιοφλαβονοειδή, οι τανίνες, οι κατεχίνες και οι ανθοκυανίνες.</a:t>
            </a:r>
            <a:r>
              <a:rPr b="0" lang="el-GR" sz="1400" spc="-1" strike="noStrike">
                <a:solidFill>
                  <a:srgbClr val="ffffff"/>
                </a:solidFill>
                <a:latin typeface="Tahoma"/>
              </a:rPr>
              <a:t> </a:t>
            </a:r>
            <a:endParaRPr b="0" lang="en-US" sz="1400" spc="-1" strike="noStrike">
              <a:solidFill>
                <a:srgbClr val="ffffff"/>
              </a:solidFill>
              <a:latin typeface="Tahoma"/>
            </a:endParaRPr>
          </a:p>
          <a:p>
            <a:pPr marL="308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Tahoma"/>
              </a:rPr>
              <a:t> </a:t>
            </a:r>
            <a:r>
              <a:rPr b="1" lang="el-GR" sz="1600" spc="-1" strike="noStrike">
                <a:solidFill>
                  <a:srgbClr val="ffffff"/>
                </a:solidFill>
                <a:latin typeface="Tahoma"/>
              </a:rPr>
              <a:t>β</a:t>
            </a:r>
            <a:r>
              <a:rPr b="0" lang="el-GR" sz="1600" spc="-1" strike="noStrike">
                <a:solidFill>
                  <a:srgbClr val="ffffff"/>
                </a:solidFill>
                <a:latin typeface="Tahoma"/>
              </a:rPr>
              <a:t>. η θερμοκρασία της ζύμωσης: Η θερμοκρασία ζυμώσεως για τα λευκά κρασιά είναι 10 με 18ο C επί 7-14 ημέρες. Η χαμηλή θερμοκρασία ευνοεί τη συγκράτηση πτητικών ενώσεων. Τα κόκκινα κρασιά ζυμώνονται στους 20-30ο C επί 7 ημέρες. Η υψηλότερη θερμοκρασία ευνοεί την εκχύλιση των χρωστικών από το φλοιό. </a:t>
            </a:r>
            <a:endParaRPr b="0" lang="en-US" sz="1600" spc="-1" strike="noStrike">
              <a:solidFill>
                <a:srgbClr val="ffffff"/>
              </a:solidFill>
              <a:latin typeface="Tahoma"/>
            </a:endParaRPr>
          </a:p>
          <a:p>
            <a:pPr marL="308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8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8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ffff"/>
                </a:solidFill>
                <a:latin typeface="Tahoma"/>
              </a:rPr>
              <a:t>Αποτελώντας τη βασική αντίδραση της οινοποίησης, η αλκοολική ζύμωση είναι ένα σύνθετο βιοχημικό φαινόμενο με βασικό άξονα εξέλιξης τη μετατροπή των σακχάρων του γλεύκους σε αιθυλική αλκοόλη και διοξείδιο του άνθρακα διαμέσου του μεταβολισμού μικροοργανισμών, κυρίως ζυμών.</a:t>
            </a:r>
            <a:r>
              <a:rPr b="0" lang="el-GR" sz="3200" spc="-1" strike="noStrike">
                <a:solidFill>
                  <a:srgbClr val="ffffff"/>
                </a:solidFill>
                <a:latin typeface="Tahoma"/>
              </a:rPr>
              <a:t> </a:t>
            </a:r>
            <a:r>
              <a:rPr b="1" lang="el-GR" sz="1400" spc="-1" strike="noStrike">
                <a:solidFill>
                  <a:srgbClr val="ffffff"/>
                </a:solidFill>
                <a:latin typeface="Tahoma"/>
              </a:rPr>
              <a:t>C6H12O6 (σάκχαρα) + Ζύμες = 2C2H5OH (αιθανόλη) + 2CO2 (διοξείδιο του άνθρακα)</a:t>
            </a:r>
            <a:r>
              <a:rPr b="0" lang="el-GR"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Παλαίωση:</a:t>
            </a:r>
            <a:endParaRPr b="0" lang="en-US" sz="24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ffff"/>
                </a:solidFill>
                <a:latin typeface="Tahoma"/>
              </a:rPr>
              <a:t>Η φυσική (ή κυρίως) παλαίωση, </a:t>
            </a:r>
            <a:r>
              <a:rPr b="0" lang="el-GR" sz="1400" spc="-1" strike="noStrike">
                <a:solidFill>
                  <a:srgbClr val="ffffff"/>
                </a:solidFill>
                <a:latin typeface="Tahoma"/>
              </a:rPr>
              <a:t>είναι η διαδικασία που ακολουθεί την ωρίμαση και μπορεί να είναι είτε οξειδωτική είτε αναγωγική. Η οξειδωτική παλαίωση (οxydation) αφορά κρασιά ειδικού τύπου όπου το επιδιωκόμενο αποτέλεσμα είναι η βαθιά οξείδωση που επιτυγχάνεται με την συντήρηση του κρασιού μέσα σε παλιά βαρέλια, συνήθως μεγάλης χωρητικότητος (οίνοι τύπου Μαδέρα). Αντίθετα, η αναγωγική παλαίωση (réduction) που λαμβάνει χώρα μέσα στη φιάλη, βασίζεται στην απουσία οξυγόνου με απώτερο σκοπό τη δημιουργία αρωματικών ουσιών (εστέρων) και τον παράλληλο πολυμερισμό των ταννινών (στρογγύλεμα του κρασιού), ύστερα από τη χημική ένωση των οξέων με τια αλκοόλες. (Στα αγγλικά: ageing, στα γαλλικά: vieillissement naturel).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ιδανικές συνθήκες αποθήκευσης:</a:t>
            </a:r>
            <a:endParaRPr b="0" lang="en-US" sz="24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nSpc>
                <a:spcPct val="80000"/>
              </a:lnSpc>
              <a:spcBef>
                <a:spcPts val="3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Tahoma"/>
              </a:rPr>
              <a:t>θερμοκρασία αποθήκευσης </a:t>
            </a:r>
            <a:endParaRPr b="0" lang="en-US" sz="1200" spc="-1" strike="noStrike">
              <a:solidFill>
                <a:srgbClr val="ffffff"/>
              </a:solidFill>
              <a:latin typeface="Tahoma"/>
            </a:endParaRPr>
          </a:p>
          <a:p>
            <a:pPr marL="329040" indent="-329040">
              <a:lnSpc>
                <a:spcPct val="80000"/>
              </a:lnSpc>
              <a:spcBef>
                <a:spcPts val="3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Tahoma"/>
              </a:rPr>
              <a:t>Εκτός από τη διατήρηση στην κατάλληλη θερμοκρασία, η σωστή αποθήκευση κρασιού προϋποθέτει πολύ μικρή διακύμανση από την ιδανική θερμοκρασία των 14ο C. Βασικό μας μέλημα είναι η θερμοκρασία αποθήκευσης κρασιού να μην παρουσιάζει διακυμάνσεις μεγαλύτερες των 2 º - 3 º C και ότι ακόμη και οι διακυμάνσεις αυτές θα είναι σπάνιες. Με κάθε διακύμανση της θερμοκρασίας, εξωτερικός αέρας μπορεί να διεισδύσει μέσα στη φιάλη προκαλώντας ζημιά στο πολύτιμο περιεχόμενο. Επιπλέον επηρεάζεται η εσωτερική ζύμωση και εξέλιξη του κρασιού στη φιάλη με άσχημα αποτελέσματα για τη γεύση και τα αρώματά του.</a:t>
            </a:r>
            <a:endParaRPr b="0" lang="en-US" sz="1200" spc="-1" strike="noStrike">
              <a:solidFill>
                <a:srgbClr val="ffffff"/>
              </a:solidFill>
              <a:latin typeface="Tahoma"/>
            </a:endParaRPr>
          </a:p>
          <a:p>
            <a:pPr marL="329040" indent="-329040">
              <a:lnSpc>
                <a:spcPct val="80000"/>
              </a:lnSpc>
              <a:spcBef>
                <a:spcPts val="3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Tahoma"/>
              </a:rPr>
              <a:t>Υγρασία</a:t>
            </a:r>
            <a:endParaRPr b="0" lang="en-US" sz="1200" spc="-1" strike="noStrike">
              <a:solidFill>
                <a:srgbClr val="ffffff"/>
              </a:solidFill>
              <a:latin typeface="Tahoma"/>
            </a:endParaRPr>
          </a:p>
          <a:p>
            <a:pPr marL="329040" indent="-329040">
              <a:lnSpc>
                <a:spcPct val="80000"/>
              </a:lnSpc>
              <a:spcBef>
                <a:spcPts val="3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Tahoma"/>
              </a:rPr>
              <a:t>Το ιδανικό επίπεδο υγρασίας για την αποθήκευση κρασιού στο σπίτι είναι μεταξύ 60% - 70%. Η χαμηλή υγρασία μπορεί να κάνει τον φελλό να στεγνώσει και να ραγίσει επιτρέποντας στον αέρα να εισχωρήσει μέσα στο μπουκάλι και να οξειδώσει το περιεχόμενο. Η υψηλή υγρασία μπορεί να δημιουργήσει ωίδιο ή να σαπίσει τον φελλό με πολύ άσχημα αποτελέσματα.</a:t>
            </a:r>
            <a:endParaRPr b="0" lang="en-US" sz="1200" spc="-1" strike="noStrike">
              <a:solidFill>
                <a:srgbClr val="ffffff"/>
              </a:solidFill>
              <a:latin typeface="Tahoma"/>
            </a:endParaRPr>
          </a:p>
          <a:p>
            <a:pPr marL="329040" indent="-329040">
              <a:lnSpc>
                <a:spcPct val="80000"/>
              </a:lnSpc>
              <a:spcBef>
                <a:spcPts val="3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Tahoma"/>
              </a:rPr>
              <a:t>Αερισμός και περιβάλλοντας χώρος</a:t>
            </a:r>
            <a:endParaRPr b="0" lang="en-US" sz="1200" spc="-1" strike="noStrike">
              <a:solidFill>
                <a:srgbClr val="ffffff"/>
              </a:solidFill>
              <a:latin typeface="Tahoma"/>
            </a:endParaRPr>
          </a:p>
          <a:p>
            <a:pPr marL="329040" indent="-329040">
              <a:lnSpc>
                <a:spcPct val="80000"/>
              </a:lnSpc>
              <a:spcBef>
                <a:spcPts val="3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Tahoma"/>
              </a:rPr>
              <a:t>Επειδή είναι δεδομένο ότι αέρας από το περιβάλλον αποθήκευσης θα εισχωρήσει στο μπουκάλι μέσα από το φελλό, φροντίστε να μην υπάρχουν έντονες οσμές στον χώρο  και σε κοντινή απόσταση το κρασί σας για μεγάλες χρονικές περιόδους. Αυτές περιλαμβάνουν καθαριστικά, χρώματα ή χημικές ουσίες οποιουδήποτε είδους.</a:t>
            </a:r>
            <a:endParaRPr b="0" lang="en-US" sz="1200" spc="-1" strike="noStrike">
              <a:solidFill>
                <a:srgbClr val="ffffff"/>
              </a:solidFill>
              <a:latin typeface="Tahoma"/>
            </a:endParaRPr>
          </a:p>
          <a:p>
            <a:pPr marL="329040" indent="-329040">
              <a:lnSpc>
                <a:spcPct val="80000"/>
              </a:lnSpc>
              <a:spcBef>
                <a:spcPts val="3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Tahoma"/>
              </a:rPr>
              <a:t>Επίπεδο φωτός</a:t>
            </a:r>
            <a:endParaRPr b="0" lang="en-US" sz="1200" spc="-1" strike="noStrike">
              <a:solidFill>
                <a:srgbClr val="ffffff"/>
              </a:solidFill>
              <a:latin typeface="Tahoma"/>
            </a:endParaRPr>
          </a:p>
          <a:p>
            <a:pPr marL="329040" indent="-329040">
              <a:lnSpc>
                <a:spcPct val="80000"/>
              </a:lnSpc>
              <a:spcBef>
                <a:spcPts val="3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Tahoma"/>
              </a:rPr>
              <a:t>Τα περισσότερα μπουκάλια κρασιού παλαίωσης έχουν σκούρο χρώμα (πράσινο ή καφέ συνήθως) για να επιτρέψουν σε όσο το δυνατόν λιγότερο φως να έρθει σε επαφή με το κρασί. Το κρασί αγαπάει το σκοτάδι. Ποτέ μην αποθηκεύετε το κρασί σας σε άμεσο ηλιακό φως ή σε ένα καλά φωτισμένο δωμάτιο. </a:t>
            </a:r>
            <a:endParaRPr b="0" lang="en-US" sz="1200" spc="-1" strike="noStrike">
              <a:solidFill>
                <a:srgbClr val="ffffff"/>
              </a:solidFill>
              <a:latin typeface="Tahoma"/>
            </a:endParaRPr>
          </a:p>
          <a:p>
            <a:pPr marL="329040" indent="-329040">
              <a:lnSpc>
                <a:spcPct val="80000"/>
              </a:lnSpc>
              <a:spcBef>
                <a:spcPts val="3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Tahoma"/>
              </a:rPr>
              <a:t>Αποθήκευση υπό κλίση </a:t>
            </a:r>
            <a:endParaRPr b="0" lang="en-US" sz="1200" spc="-1" strike="noStrike">
              <a:solidFill>
                <a:srgbClr val="ffffff"/>
              </a:solidFill>
              <a:latin typeface="Tahoma"/>
            </a:endParaRPr>
          </a:p>
          <a:p>
            <a:pPr marL="329040" indent="-329040">
              <a:lnSpc>
                <a:spcPct val="80000"/>
              </a:lnSpc>
              <a:spcBef>
                <a:spcPts val="3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Tahoma"/>
              </a:rPr>
              <a:t>Τα μπουκάλια κρασιού πρέπει πάντα να αποθηκεύονται οριζόντια, σε γωνία 45 ° με το φελλό προς τα κάτω ή κάπου στο ενδιάμεσο. Αυτό θα κρατήσει το κρασί σε συνεχή επαφή με το φελλό εξασφαλίζοντας ότι αυτός θα παραμείνει υγρός χωρίς να διατρέχει κίνδυνο να ξεραθεί και να επιτρέψει στον αέρα να εισέλθει. </a:t>
            </a:r>
            <a:endParaRPr b="0" lang="en-US" sz="1200" spc="-1" strike="noStrike">
              <a:solidFill>
                <a:srgbClr val="ffffff"/>
              </a:solidFill>
              <a:latin typeface="Tahoma"/>
            </a:endParaRPr>
          </a:p>
          <a:p>
            <a:pPr marL="329040" indent="-329040">
              <a:lnSpc>
                <a:spcPct val="80000"/>
              </a:lnSpc>
              <a:spcBef>
                <a:spcPts val="3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Tahoma"/>
              </a:rPr>
              <a:t>Ιδανικά, ένας συντηρητής κρασιού θα κρατήσει τα κρασιά σας ασφαλή μέχρι να αποφασίσετε να τα απολαύσετε. Εναλλακτικά προτιμήστε κάποιο σκοτεινό υπόγειο χωρίς πολλές μυρωδιές και αυξομειώσεις θερμοκρασίας.</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ιδανικές συνθήκες αποθήκευσης:</a:t>
            </a:r>
            <a:endParaRPr b="0" lang="en-US" sz="2800" spc="-1" strike="noStrike">
              <a:solidFill>
                <a:srgbClr val="ffffcc"/>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ffff"/>
                </a:solidFill>
                <a:latin typeface="Tahoma"/>
              </a:rPr>
              <a:t>Υγρός φελλός</a:t>
            </a:r>
            <a:br>
              <a:rPr sz="1400"/>
            </a:br>
            <a:r>
              <a:rPr b="0" lang="el-GR" sz="1400" spc="-1" strike="noStrike">
                <a:solidFill>
                  <a:srgbClr val="ffffff"/>
                </a:solidFill>
                <a:latin typeface="Tahoma"/>
              </a:rPr>
              <a:t>Αποθηκεύοντας το κρασί στο πλάι, κρατά το φελλό πάντοτε σε επαφή με το κρασί, που, με τη σειρά του, δεν αφήνει το φελλό να στεγνώσει και να ξεραθεί. Ο ξερός φελλός συστέλλεται, αφήνοντας τον αέρα να μπει στο μπουκάλι, και να οξειδώσει υπερβολικά το κρασί. </a:t>
            </a:r>
            <a:br>
              <a:rPr sz="1400"/>
            </a:br>
            <a:br>
              <a:rPr sz="1400"/>
            </a:br>
            <a:r>
              <a:rPr b="0" lang="el-GR" sz="1400" spc="-1" strike="noStrike">
                <a:solidFill>
                  <a:srgbClr val="ffffff"/>
                </a:solidFill>
                <a:latin typeface="Tahoma"/>
              </a:rPr>
              <a:t>Αν έχετε στο μυαλό σας τις τέσσερεις αυτές απαιτήσεις, μπορείτε εύκολα να βρείτε κάποιο χώρο στο σπίτι σας που να τις πληρεί, και δε θα χρειαστείτε κελάρι. Μια γωνιά στο υπόγειο, μια ντουλάπα σε ένα επί πλέον υπνοδωμάτιο, ένα ερμάριο κάτω από τη σκάλα μπορεί κάλλιστα να κάνουν τη δουλειά. Και να θυμάστε πάντα ότι, όσο περισσότερο καιρό σχεδιάζετε να κρατήσετε τα κρασιά σας, τόσο περισσότερο σημαντικές γίνονται αυτές οι απαιτήσεις.</a:t>
            </a:r>
            <a:br>
              <a:rPr sz="1400"/>
            </a:br>
            <a:r>
              <a:rPr b="0" lang="el-GR" sz="1400" spc="-1" strike="noStrike">
                <a:solidFill>
                  <a:srgbClr val="ffffff"/>
                </a:solidFill>
                <a:latin typeface="Tahoma"/>
              </a:rPr>
              <a:t> </a:t>
            </a:r>
            <a:endParaRPr b="0" lang="en-US" sz="1400" spc="-1" strike="noStrike">
              <a:solidFill>
                <a:srgbClr val="ffffff"/>
              </a:solidFill>
              <a:latin typeface="Tahoma"/>
            </a:endParaRPr>
          </a:p>
        </p:txBody>
      </p:sp>
      <p:sp>
        <p:nvSpPr>
          <p:cNvPr id="111" name=""/>
          <p:cNvSpPr/>
          <p:nvPr/>
        </p:nvSpPr>
        <p:spPr>
          <a:xfrm>
            <a:off x="826920" y="3500280"/>
            <a:ext cx="777744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Δονήσεις</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Περιοχές με μεγάλη κυκλοφορία πεζών και διαφόρων ειδών δονήσεων θα πρέπει να αποφεύγονται, γιατί το κρασί δεν αρέσκεται καθόλου σε αυτές</a:t>
            </a:r>
            <a:r>
              <a:rPr b="0" lang="en-US"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Πώς χρωματίζεται το κρασί :</a:t>
            </a:r>
            <a:endParaRPr b="0" lang="en-US" sz="2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Tahoma"/>
              </a:rPr>
              <a:t>Τα σταφύλια που έχουν μόλις πολτοποιηθεί έχουν συνήθως ένα γκριζοπράσινο χρώμα, </a:t>
            </a:r>
            <a:r>
              <a:rPr b="0" i="1" lang="el-GR" sz="1600" spc="-1" strike="noStrike">
                <a:solidFill>
                  <a:srgbClr val="ffffff"/>
                </a:solidFill>
                <a:latin typeface="Tahoma"/>
              </a:rPr>
              <a:t>ανεξάρτητα από το αν ήταν άσπρα ή κόκκινα</a:t>
            </a:r>
            <a:r>
              <a:rPr b="0" lang="el-GR" sz="1600" spc="-1" strike="noStrike">
                <a:solidFill>
                  <a:srgbClr val="ffffff"/>
                </a:solidFill>
                <a:latin typeface="Tahoma"/>
              </a:rPr>
              <a:t>.</a:t>
            </a:r>
            <a:br>
              <a:rPr sz="1600"/>
            </a:br>
            <a:r>
              <a:rPr b="0" lang="el-GR" sz="1600" spc="-1" strike="noStrike">
                <a:solidFill>
                  <a:srgbClr val="ffffff"/>
                </a:solidFill>
                <a:latin typeface="Tahoma"/>
              </a:rPr>
              <a:t>Όταν πρόκειται για την παραγωγή κόκκινου κρασιού, μια ειδική διαδικασία είναι απαραίτητη για επιτύχει κανείς το χρώμα του κρασιού. Οι φλούδες των σταφυλιών, οι οποίες ποικίλουν ανάλογα με τον τύπο του κλήματος, περιέχουν ουσίες- εκτός από τα σάκχαρα- οι οποίες καθορίζουν την ποιότητα του κρασιού. Εκτός από την τανίνη και τμήμα από ουσίες που δίνουν γεύση, υπάρχουν επίσης χρωστικές ουσίες, όπως η ανθοκαϊνη, η οποία είναι υδατοδιαλυτή.</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Tahoma"/>
              </a:rPr>
              <a:t>Όσο πιο ώριμο είναι το σταφύλι, τόσο υψηλότερη είναι η συγκέντρωση των χρωστικών ουσιών, κάτι το οποίο εξηγεί το γιατί τα κόκκινα κρασιά από τον Νότο έχουν εμφανώς πιο έντονο κόκκινο χρώμα σε σχέση με εκείνα που καλλιεργήθηκαν σε βορειότερες περιοχές. Αν οι φλούδες των σταφυλιών γδαρθούν ελαφρώς κατά το πάτημα ή την διαδικασία της άλεσης, ο μούστος έρχεται σε επαφή με τις ανοιχτές φλούδες των σταφυλιών και απορροφάει το χρώμα τους. Για την παραγωγή των ροζέ κρασιών, μερικές μόνο ώρες είναι αρκετές για να πάρει ο μούστος ένα ελαφρύ ροζ χρώμα.</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Tahoma"/>
              </a:rPr>
              <a:t>Από την άλλη πλευρά, αν τα σταφύλια για το κόκκινο κρασί πατηθούν γρήγορα, χωρίς μια μακρά περίοδο ζύμωσης, τότε πολύ λίγες χρωστικές ουσίες φτάνουν στο μούστο και έτσι αυτός παραμένει άσπρος.</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30T14:23:37Z</dcterms:created>
  <dc:creator>user</dc:creator>
  <dc:description/>
  <dc:language>en-US</dc:language>
  <cp:lastModifiedBy>user</cp:lastModifiedBy>
  <dcterms:modified xsi:type="dcterms:W3CDTF">2015-01-07T20:14:01Z</dcterms:modified>
  <cp:revision>9</cp:revision>
  <dc:subject/>
  <dc:title>Το κρασί και η παραγωγή του</dc:title>
</cp:coreProperties>
</file>